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6775-5785-420C-9755-1A3ED8C4E7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Др Предраг Чановић, ванр.проф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155-0439-441C-B940-A3AB34C117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8006-BCAF-4DD6-813E-B09673AAF3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1FB-9530-4501-8045-3E6B20885E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1BA-C6C6-47D3-A611-E5FDF9DD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5D0-B8B1-40FB-94CD-43E1D889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7CD-DAF3-4F3A-8535-B1637C3E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7FD-BDB4-4A57-AC05-BFBDA252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E94A-E018-4EE1-951B-1D63D61C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81EB-31DD-49D2-8B85-C95CB730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B90-AE81-4B63-A8B3-4EB30351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A3F3-06C3-406F-BA77-F6E44459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CBF-EFEF-4D94-915B-FB6B1F0E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4988-14C8-4313-B18F-FCB092A6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A8F2-8C75-4381-81E2-627FC8A3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F2D-8DB6-43C3-AAB6-CF4E228B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901-820D-4A47-A826-697BBD7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C95-B226-43B8-A941-28B9381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AC67-A8D2-4533-80D7-3D38D5C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3918-0D1E-44ED-B9EE-A3854954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2273-D091-4E18-B045-C49E51C6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F5B-863A-4734-9C23-473E61D4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A52-D840-488D-94DB-409C2268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700-957B-4CE8-909E-085A5C5C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2E4-43D3-4E1E-9EB8-49E9B3F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FE4-4771-4826-88FC-6335F2E6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BE3-DC7A-4B6E-B35A-DE36083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CC2-8415-44D0-A0B4-3D14D27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305D-6839-4E2F-889E-8F68B4AAD2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CF6-D84B-499A-8DB3-955E691BBF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ОСНОВНЕ СТРУКОВНЕ СТУД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Катедр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ургентн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примар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здравствену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зашти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ГАСТРОИНТЕСТИНАЛНЕ</a:t>
            </a:r>
            <a:r>
              <a:rPr b="0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0" i="1" lang="sr-Latn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Др</a:t>
            </a:r>
            <a:r>
              <a:rPr b="0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Жељко</a:t>
            </a:r>
            <a:r>
              <a:rPr b="0" i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sr-RS" sz="3200" spc="-1" strike="noStrike">
                <a:solidFill>
                  <a:srgbClr val="ffff00"/>
                </a:solidFill>
                <a:latin typeface="Times New Roman"/>
              </a:rPr>
              <a:t>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Times New Roman"/>
              </a:rPr>
              <a:t>Леч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еки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тибиотс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рап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ме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тибио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иј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хидра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ред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учаје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анкомици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er os 250mg/6h/10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етронидазо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per os 500mg/8h/10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ж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учаје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е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бо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анкомиц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ерилиза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ндоскопс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струм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анифестн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ационал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име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тибио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БАКТЕРИЈСКО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ТРОВАЊ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РАНОМ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пидемиолош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линич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нтите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ик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кутн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гастроентерити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нзумирањ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ра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јо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множил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актер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лмонел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гомила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окси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актер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Staphylococcus aureus, Cl. perfrigen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ere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пидемијс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јављи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нтаминир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ормалн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гле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ири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к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Че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бле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азвијен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СТАФИЛОКОКНО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ТРОВАЊ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РАНОМ</a:t>
            </a:r>
            <a:br>
              <a:rPr sz="2800"/>
            </a:b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Intoxicatio alimentari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нтеротокси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St.aure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a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рмостаби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теи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тпор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sr-RS" sz="2400" spc="-1" strike="noStrike">
                <a:solidFill>
                  <a:srgbClr val="ffff00"/>
                </a:solidFill>
                <a:latin typeface="Times New Roman"/>
              </a:rPr>
              <a:t>чове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50%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дра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лицонош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о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ж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sr-RS" sz="2400" spc="-1" strike="noStrike">
                <a:solidFill>
                  <a:srgbClr val="ffff00"/>
                </a:solidFill>
                <a:latin typeface="Times New Roman"/>
              </a:rPr>
              <a:t>контаминирана</a:t>
            </a:r>
            <a:r>
              <a:rPr b="0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sr-RS" sz="2400" spc="-1" strike="noStrike">
                <a:solidFill>
                  <a:srgbClr val="ffff00"/>
                </a:solidFill>
                <a:latin typeface="Times New Roman"/>
              </a:rPr>
              <a:t>хр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ес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рем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адоле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ромпи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ла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ајоне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раткотрај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у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фикас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пидемијс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јављи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брз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еристал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ејств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окси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ента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враћ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уте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агу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импатичк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ра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ли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т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и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хиби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сорп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-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чни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икробиолош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ш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оказ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лат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филок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ћ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теротоксин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филоко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F, ELISA, 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окн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рол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ПУТНИЧКИ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ПРОЛИВ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ли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утн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путова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в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ин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нтеротоксич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E.col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50%)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ли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ојча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тавиру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30%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ampylobacter jejun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.c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Шигел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лмоне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Vibrio cholera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уж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Vibrio parahaemolyticu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оч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з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нзумир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рс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ра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и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фекц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e (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E.histolytica, Strongiloides stercoralis, Ancylostoma duodenal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360" y="4568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уто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игијенс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ољ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игијенс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оши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ред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Чешћ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утовањ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еве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ју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апа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с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атин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мер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фр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редњ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сто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едитера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Јуж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вроп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емљ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редње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из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20%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болел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бољев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ла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“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устолов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бољев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утн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меште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обр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отел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одовод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ла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ољуште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оћ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адоле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е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Лак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средње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тежак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акутни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дијареални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3-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олиц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нев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20%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1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олиц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грчев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рбух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уч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азив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теријс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2-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и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реални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зитар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ининфектив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ј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флор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к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рев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апсорп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шавље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Епидемиолош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да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абораторијс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на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ехидратциј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ипокалиј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икробиолош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егле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о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емокулту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ебри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хидратац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ер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коли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итар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чн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а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ијет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ек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бан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о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арадај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ранџ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операми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јач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тезите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фебри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риметопр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улфаметоксазо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луорохиноло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ебрил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р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ол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трај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лат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ави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ер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љуш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ува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е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дба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бегава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екуван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ран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ладо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емопрофилак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риметопр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улфаметоксазол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луорохинолон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оендемич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е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бетичар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ул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ча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озн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тикостероидно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честал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спираторних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асов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јављи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земљам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иж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хигијенск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андар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ред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високи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андардом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бактеријска</a:t>
            </a: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тровања</a:t>
            </a: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хр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постантибиотски</a:t>
            </a: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ко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туристичка</a:t>
            </a: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sr-RS" sz="2400" spc="-1" strike="noStrike">
                <a:solidFill>
                  <a:srgbClr val="ff3300"/>
                </a:solidFill>
                <a:latin typeface="Times New Roman"/>
              </a:rPr>
              <a:t>дијаре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6"/>
          <p:cNvSpPr/>
          <p:nvPr/>
        </p:nvSpPr>
        <p:spPr>
          <a:xfrm>
            <a:off x="1330920" y="2057400"/>
            <a:ext cx="7124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ahoma"/>
              </a:rPr>
              <a:t>ЗМИЈСКИ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Latn-CS" sz="4400" spc="-1" strike="noStrike">
                <a:solidFill>
                  <a:srgbClr val="ffff00"/>
                </a:solidFill>
                <a:latin typeface="Tahoma"/>
              </a:rPr>
              <a:t>УЈЕ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VULNUS MORSUM VlPERINUM s. OPHIDIS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B003-C364-49DE-8B28-913933BE43D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990720" y="685800"/>
            <a:ext cx="79246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фидизам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клиничка слика тровања као последица уједа змија отровница (офис грч. = змиј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д њиховог уједа, у свету, годишње умире око 40000 људи. Треба истаћи да од око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50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0 врста змија, укупно 390 су отровниц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јвише отровница има у тропском и суптропском појасу, у Индији, Малајском архипелагу, Бразилу, Средњој Америци, неким деловима Африке. У Европи број отровница и њихових уједа сразмерно није велики, али број смртних случајева због уједа није незнатан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У нашој земљи живе само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Viperidaе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поскок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шарк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риђовк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љутиц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жутокруг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AEB8-1B46-480B-AD9F-E524E3477D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2" descr="200px-Sarka"/>
          <p:cNvPicPr/>
          <p:nvPr/>
        </p:nvPicPr>
        <p:blipFill>
          <a:blip r:embed="rId1"/>
          <a:srcRect l="0" t="5607" r="0" b="7916"/>
          <a:stretch/>
        </p:blipFill>
        <p:spPr>
          <a:xfrm>
            <a:off x="1143000" y="8380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Poskok"/>
          <p:cNvPicPr/>
          <p:nvPr/>
        </p:nvPicPr>
        <p:blipFill>
          <a:blip r:embed="rId2"/>
          <a:srcRect l="7297" t="11049" r="7297" b="0"/>
          <a:stretch/>
        </p:blipFill>
        <p:spPr>
          <a:xfrm>
            <a:off x="5029200" y="838080"/>
            <a:ext cx="3505320" cy="2397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1686240" y="228600"/>
            <a:ext cx="62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тровне змије на 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ш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099160" y="32004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Шар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215400" y="327672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оск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10" descr="Zmija_Ridjovka"/>
          <p:cNvPicPr/>
          <p:nvPr/>
        </p:nvPicPr>
        <p:blipFill>
          <a:blip r:embed="rId3"/>
          <a:srcRect l="0" t="0" r="12504" b="6669"/>
          <a:stretch/>
        </p:blipFill>
        <p:spPr>
          <a:xfrm>
            <a:off x="228600" y="3886200"/>
            <a:ext cx="2666880" cy="2133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636480" y="61070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Риђ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2" descr="Zutokrug"/>
          <p:cNvPicPr/>
          <p:nvPr/>
        </p:nvPicPr>
        <p:blipFill>
          <a:blip r:embed="rId4"/>
          <a:srcRect l="4651" t="10265" r="11627" b="0"/>
          <a:stretch/>
        </p:blipFill>
        <p:spPr>
          <a:xfrm>
            <a:off x="3124080" y="3886200"/>
            <a:ext cx="2895840" cy="2109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4086000" y="601992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Жуто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4" descr="Talijanska_ljutica_zmajur"/>
          <p:cNvPicPr/>
          <p:nvPr/>
        </p:nvPicPr>
        <p:blipFill>
          <a:blip r:embed="rId5"/>
          <a:stretch/>
        </p:blipFill>
        <p:spPr>
          <a:xfrm>
            <a:off x="6477120" y="3886200"/>
            <a:ext cx="2286000" cy="2039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5"/>
          <p:cNvSpPr/>
          <p:nvPr/>
        </p:nvSpPr>
        <p:spPr>
          <a:xfrm>
            <a:off x="7080480" y="60199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Љут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647-4C43-43D5-A2EB-59981A3B62C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219320" y="304920"/>
            <a:ext cx="66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Нео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тровне змије на на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шим простор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3" descr="bjelouska 1"/>
          <p:cNvPicPr/>
          <p:nvPr/>
        </p:nvPicPr>
        <p:blipFill>
          <a:blip r:embed="rId1"/>
          <a:srcRect l="0" t="9326" r="0" b="9908"/>
          <a:stretch/>
        </p:blipFill>
        <p:spPr>
          <a:xfrm>
            <a:off x="1295280" y="1066680"/>
            <a:ext cx="2819520" cy="203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Bjelouska"/>
          <p:cNvPicPr/>
          <p:nvPr/>
        </p:nvPicPr>
        <p:blipFill>
          <a:blip r:embed="rId2"/>
          <a:stretch/>
        </p:blipFill>
        <p:spPr>
          <a:xfrm>
            <a:off x="4724280" y="1066680"/>
            <a:ext cx="3124440" cy="20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muk 1"/>
          <p:cNvPicPr/>
          <p:nvPr/>
        </p:nvPicPr>
        <p:blipFill>
          <a:blip r:embed="rId3"/>
          <a:srcRect l="0" t="6597" r="0" b="5208"/>
          <a:stretch/>
        </p:blipFill>
        <p:spPr>
          <a:xfrm>
            <a:off x="838080" y="380988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a%20fragilis02"/>
          <p:cNvPicPr/>
          <p:nvPr/>
        </p:nvPicPr>
        <p:blipFill>
          <a:blip r:embed="rId4"/>
          <a:srcRect l="0" t="3175" r="0" b="11169"/>
          <a:stretch/>
        </p:blipFill>
        <p:spPr>
          <a:xfrm>
            <a:off x="5029200" y="380988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706920" y="320040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Белоуш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973520" y="5867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Сму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6155280" y="586728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Слеп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5D55-F1EB-45D4-B27B-0EC0145E87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2065320" y="684720"/>
            <a:ext cx="54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Змијски отров - састав и ефекти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90720" y="19051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уби заједно са изводним каналима и отровним жлездама сачињавају отровни апара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oth_Publications_fig201"/>
          <p:cNvPicPr/>
          <p:nvPr/>
        </p:nvPicPr>
        <p:blipFill>
          <a:blip r:embed="rId1"/>
          <a:stretch/>
        </p:blipFill>
        <p:spPr>
          <a:xfrm>
            <a:off x="304920" y="33526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snake_main"/>
          <p:cNvPicPr/>
          <p:nvPr/>
        </p:nvPicPr>
        <p:blipFill>
          <a:blip r:embed="rId2"/>
          <a:stretch/>
        </p:blipFill>
        <p:spPr>
          <a:xfrm>
            <a:off x="4800600" y="2666880"/>
            <a:ext cx="41911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5C95-FABC-4E44-9A67-1E8C958CEC7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066680" y="762120"/>
            <a:ext cx="7772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Биохемијски састав змијског отрова веома је комплексан. Око 70% отрова је вода, а 90% суве масе сачињавају беланчевине. У отрову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Viperidaе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је живе у нашем поднебљу, а чије је главно дејство хемотоксично, доказан је велики број ензима и токсина: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амино ацид оксидаза, ацетилхолинестераза,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 аргинин оксидаза,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TP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- аза, антипротромбински фактор, егзопептидаза, хијалуронидаза, фибринолизин, фосфолипаза А и Б, протеаза, неуротоксин, хеморагин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3" descr="nm0906-999-F1"/>
          <p:cNvPicPr/>
          <p:nvPr/>
        </p:nvPicPr>
        <p:blipFill>
          <a:blip r:embed="rId1"/>
          <a:stretch/>
        </p:blipFill>
        <p:spPr>
          <a:xfrm>
            <a:off x="4191120" y="3505320"/>
            <a:ext cx="4724280" cy="27874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43000" y="3352680"/>
            <a:ext cx="26668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Фармаколошки ефекти отрова змија у нашем поднебљу, шарке и поскока су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хемолитич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антикоагулант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ардиотоксичн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еуротоксичн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ионекротич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6C4E-E9B1-4CB5-A567-CAD1BFEF5D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335680" y="150840"/>
            <a:ext cx="49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а слика озле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ђ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еног и 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клинички облици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914400" y="121932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 клиничкој слици озл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еног уједом змије издвајају се локални и системски симптоми и знац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Локални симптом</a:t>
            </a:r>
            <a:r>
              <a:rPr b="0" i="1" lang="sr-CS" sz="20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 и з</a:t>
            </a:r>
            <a:r>
              <a:rPr b="0" i="1" lang="sr-CS" sz="20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аци: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обично се налазе две убодне ранице размакнуте 15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mm,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из којих цури крв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ли серосангвинолентна течност, затим бол и локални оток уз промену боје кож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5" descr="8928"/>
          <p:cNvPicPr/>
          <p:nvPr/>
        </p:nvPicPr>
        <p:blipFill>
          <a:blip r:embed="rId1"/>
          <a:stretch/>
        </p:blipFill>
        <p:spPr>
          <a:xfrm>
            <a:off x="609480" y="335268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orvenenosa"/>
          <p:cNvPicPr/>
          <p:nvPr/>
        </p:nvPicPr>
        <p:blipFill>
          <a:blip r:embed="rId2"/>
          <a:srcRect l="9414" t="3035" r="4511" b="9091"/>
          <a:stretch/>
        </p:blipFill>
        <p:spPr>
          <a:xfrm>
            <a:off x="4572000" y="3352680"/>
            <a:ext cx="426708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38E-7318-43E3-B845-52E6CCCAC6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990720" y="533520"/>
            <a:ext cx="78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00"/>
                </a:solidFill>
                <a:latin typeface="Tahoma"/>
              </a:rPr>
              <a:t>Системски симптоми и знаци: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јчешће се пацијент жали на слабост, вртоглавицу, муку, гађење, повраћање, те главобољу и сметње вида. Често је обливен знојем, има појачану саливацију, хипотензију и убрзан, филиформан пулс. Оток и промена боја коже јављају се већ после 10 до 15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min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 тешко тровање указује оток који се брзо шири, као и крварења на месту уједа или удаљена. Због хемолитичког дејства отрова клиничком сликом може доминирати хеморагијски синдром. Због протеолизе може доћи до некрозе ткива, а може доћи и до секундарне инфекције (целулитис и гангрен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chewing"/>
          <p:cNvPicPr/>
          <p:nvPr/>
        </p:nvPicPr>
        <p:blipFill>
          <a:blip r:embed="rId1"/>
          <a:stretch/>
        </p:blipFill>
        <p:spPr>
          <a:xfrm>
            <a:off x="304920" y="41911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bite3"/>
          <p:cNvPicPr/>
          <p:nvPr/>
        </p:nvPicPr>
        <p:blipFill>
          <a:blip r:embed="rId2"/>
          <a:stretch/>
        </p:blipFill>
        <p:spPr>
          <a:xfrm>
            <a:off x="2438280" y="41911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bite5_S"/>
          <p:cNvPicPr/>
          <p:nvPr/>
        </p:nvPicPr>
        <p:blipFill>
          <a:blip r:embed="rId3"/>
          <a:stretch/>
        </p:blipFill>
        <p:spPr>
          <a:xfrm>
            <a:off x="4572000" y="41911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bite4_S"/>
          <p:cNvPicPr/>
          <p:nvPr/>
        </p:nvPicPr>
        <p:blipFill>
          <a:blip r:embed="rId4"/>
          <a:stretch/>
        </p:blipFill>
        <p:spPr>
          <a:xfrm>
            <a:off x="6705720" y="419112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3F7-EBF4-4B98-93AF-085F5AF7E2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219320" y="609480"/>
            <a:ext cx="761976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лакше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случајеве офидизма убрајају се они са незнатним локалним симптомима и добрим општим стањ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средње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тешке они са тешким локалним налазом али без значајних системских поремећаја, док с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i="1" lang="sr-Latn-CS" sz="2000" spc="-1" strike="noStrike">
                <a:solidFill>
                  <a:srgbClr val="ffff00"/>
                </a:solidFill>
                <a:latin typeface="Tahoma"/>
              </a:rPr>
              <a:t>тешке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сврставају они са тешким системским поремећајима, пос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бн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о са стањем шо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3" descr="armpic"/>
          <p:cNvPicPr/>
          <p:nvPr/>
        </p:nvPicPr>
        <p:blipFill>
          <a:blip r:embed="rId1"/>
          <a:stretch/>
        </p:blipFill>
        <p:spPr>
          <a:xfrm>
            <a:off x="609480" y="4191120"/>
            <a:ext cx="3962520" cy="2216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PAG70_FOT5G"/>
          <p:cNvPicPr/>
          <p:nvPr/>
        </p:nvPicPr>
        <p:blipFill>
          <a:blip r:embed="rId2"/>
          <a:stretch/>
        </p:blipFill>
        <p:spPr>
          <a:xfrm>
            <a:off x="4800600" y="3809880"/>
            <a:ext cx="3962520" cy="25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21DF-0373-4653-8862-7C80CFCD28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219320" y="2133720"/>
            <a:ext cx="74674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Примарни шо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могу изазвати токсични полипептиди и хистамин, а после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може се развити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секундарни шо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због дехидратације. Отров може да оштети јетру и бубреге и да изазове анурију, уремију и жутицу. Као израз неуротоксичности понекад могу да се јаве птоза, поремећај акомодације вида и поремећај гутањ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66ccff"/>
                </a:solidFill>
                <a:latin typeface="Times New Roman"/>
              </a:rPr>
              <a:t>Неразвијени</a:t>
            </a:r>
            <a:r>
              <a:rPr b="0" i="1" lang="sr-Latn-CS" sz="28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i="1" lang="sr-RS" sz="2800" spc="-1" strike="noStrike">
                <a:solidFill>
                  <a:srgbClr val="66ccff"/>
                </a:solidFill>
                <a:latin typeface="Times New Roman"/>
              </a:rPr>
              <a:t>с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вакодневн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бол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илио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бољев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1-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сек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мај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5-6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так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ролив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годиш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50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храњенос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ећ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rotavirus, enterotoksična E.coli, kampilobakter, 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šigela)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91120" y="22096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191120" y="31240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191120" y="403848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80B0-0FC2-415B-B20F-D37DD12986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295280" y="2209680"/>
            <a:ext cx="75438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ff00"/>
                </a:solidFill>
                <a:latin typeface="Tahoma"/>
              </a:rPr>
              <a:t>Лабораторијске анализе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бично обухватају праћење вредности хемограма, фибриногена, протромбина и прозвода фибринолизе. Леукоцитоза са неутрофилијом уз повишене вредности хематокрита и пад вредности тромбоцита сматрају се карактеристичним нала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4AA8-1FF3-4FDE-A6C4-C90F977DA4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565280" y="50220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Терапијске смер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447920" y="2133720"/>
            <a:ext cx="70866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Терапија офидизма обухват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примену мера прве помоћ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ординирање специфичног антивипериног серум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90000"/>
              </a:lnSpc>
              <a:buClr>
                <a:srgbClr val="ffffff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примену општих терапијских м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36C-0B75-4245-8BC7-E7095F1344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154520" y="30492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а)   Прва помо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990720" y="838080"/>
            <a:ext cx="7848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Околина ране опере се водом како би се отклонио евентуално присутни отров, друге манипулације у односу на место уједа треба избегавати. Озл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ени екстремитет имобилисати, пацијенту не дозволити да се креће и без одлагања обавити транспорт у медицинску установ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15046"/>
          <p:cNvPicPr/>
          <p:nvPr/>
        </p:nvPicPr>
        <p:blipFill>
          <a:blip r:embed="rId1"/>
          <a:stretch/>
        </p:blipFill>
        <p:spPr>
          <a:xfrm>
            <a:off x="228600" y="2819520"/>
            <a:ext cx="4267080" cy="341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15048"/>
          <p:cNvPicPr/>
          <p:nvPr/>
        </p:nvPicPr>
        <p:blipFill>
          <a:blip r:embed="rId2"/>
          <a:stretch/>
        </p:blipFill>
        <p:spPr>
          <a:xfrm>
            <a:off x="4648320" y="2819520"/>
            <a:ext cx="4267080" cy="34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915E-6E05-4C74-B60E-208CAAE1D0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295280" y="2057400"/>
            <a:ext cx="717876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1001"/>
              </a:spcAft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Ако од уједа није прошло више од пола сата и знаци тровања се брзо развијају, а антивиперини серум се не може дати, треба ставити компресивни завој проксимално од места уједа тако да се спречи отицање лимфе, али не и проток крви кроз вене и артерије. Са напредовањем отока померити завој и задржати га до давања антивипериног серу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Aft>
                <a:spcPts val="1001"/>
              </a:spcAft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једено место покрити без стезањ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Aft>
                <a:spcPts val="1001"/>
              </a:spcAft>
              <a:buClr>
                <a:srgbClr val="ffff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4F60-4D49-4CA1-B652-131DA60844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3" descr="Photograph:A scientist collects venom from a snake. Antivenin, a serum used to treat snakebites, is produced by immunizing an animal against a venom. Small amounts of the collected venom are injected into the animal until its system produces antitoxins. An antivenin is then prepared from the animal's blood."/>
          <p:cNvPicPr/>
          <p:nvPr/>
        </p:nvPicPr>
        <p:blipFill>
          <a:blip r:embed="rId1"/>
          <a:stretch/>
        </p:blipFill>
        <p:spPr>
          <a:xfrm>
            <a:off x="1143000" y="3962520"/>
            <a:ext cx="3352680" cy="2471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Snake Antivenom"/>
          <p:cNvPicPr/>
          <p:nvPr/>
        </p:nvPicPr>
        <p:blipFill>
          <a:blip r:embed="rId2"/>
          <a:stretch/>
        </p:blipFill>
        <p:spPr>
          <a:xfrm>
            <a:off x="4800600" y="4038480"/>
            <a:ext cx="3657600" cy="2379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1201320" y="228600"/>
            <a:ext cx="49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б)   Специфични антивиперини серу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066680" y="8380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д уједа змије из породице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Viperиnaе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антидот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је пречишћени и концентровани серум који садржи специфичне антитоксине који се добијају из плазме здравих коња имунизованих растућим дозама отрова поскока. Терапијска доза за децу и одрасле је 5 </a:t>
            </a: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ml</a:t>
            </a:r>
            <a:r>
              <a:rPr b="0" i="1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антитоксина и.м. или с.ц. по могућству у близини уједа. С обзиром да примена антивипериног серума може бити опасна по живот, потребно је придржавати се основних принципа при давању серума анималног порек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938E-F86C-448F-8E06-844071B961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52280" y="762120"/>
            <a:ext cx="883944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066680" y="303840"/>
            <a:ext cx="69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Tahoma"/>
              </a:rPr>
              <a:t>Схематизовани приказ давања антивипериног серум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905120" y="990720"/>
            <a:ext cx="6324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Анамнеза о претходним примањима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анималних серу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и о постојању алергијске дијатезе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676520" y="2286000"/>
            <a:ext cx="23619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негативан одгов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553080" y="2286000"/>
            <a:ext cx="22860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позитиван одгов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04920" y="4572000"/>
            <a:ext cx="236196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негативн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реак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2819520" y="4572000"/>
            <a:ext cx="34290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позитивн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а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реак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(црвенило и 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нфилтрат &gt; 1 </a:t>
            </a:r>
            <a:r>
              <a:rPr b="0" i="1" lang="sr-Latn-CS" sz="1800" spc="-1" strike="noStrike">
                <a:solidFill>
                  <a:srgbClr val="000066"/>
                </a:solidFill>
                <a:latin typeface="Tahoma"/>
              </a:rPr>
              <a:t>c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066680" y="3200400"/>
            <a:ext cx="358164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Проба са 0.1 </a:t>
            </a:r>
            <a:r>
              <a:rPr b="0" i="1" lang="sr-Latn-CS" sz="1800" spc="-1" strike="noStrike">
                <a:solidFill>
                  <a:srgbClr val="000066"/>
                </a:solidFill>
                <a:latin typeface="Tahoma"/>
              </a:rPr>
              <a:t>ml 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чистог серум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(интрадермално)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28600" y="5715000"/>
            <a:ext cx="2971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Дати целокупну дозу и.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81680" y="4572000"/>
            <a:ext cx="21337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Дати серум у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десензиби</a:t>
            </a:r>
            <a:r>
              <a:rPr b="0" lang="sr-CS" sz="1800" spc="-1" strike="noStrike">
                <a:solidFill>
                  <a:srgbClr val="000066"/>
                </a:solidFill>
                <a:latin typeface="Tahoma"/>
              </a:rPr>
              <a:t>ли</a:t>
            </a:r>
            <a:r>
              <a:rPr b="0" lang="sr-Latn-CS" sz="1800" spc="-1" strike="noStrike">
                <a:solidFill>
                  <a:srgbClr val="000066"/>
                </a:solidFill>
                <a:latin typeface="Tahoma"/>
              </a:rPr>
              <a:t>зациј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2743200" y="27432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7620120" y="2819520"/>
            <a:ext cx="380880" cy="1600200"/>
          </a:xfrm>
          <a:prstGeom prst="downArrow">
            <a:avLst>
              <a:gd name="adj1" fmla="val 41667"/>
              <a:gd name="adj2" fmla="val 10503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6324480" y="47242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1371600" y="5257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20"/>
          <p:cNvSpPr/>
          <p:nvPr/>
        </p:nvSpPr>
        <p:spPr>
          <a:xfrm rot="1554600">
            <a:off x="3504960" y="40384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21"/>
          <p:cNvSpPr/>
          <p:nvPr/>
        </p:nvSpPr>
        <p:spPr>
          <a:xfrm rot="1554600">
            <a:off x="6400440" y="18288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22"/>
          <p:cNvSpPr/>
          <p:nvPr/>
        </p:nvSpPr>
        <p:spPr>
          <a:xfrm rot="9098400">
            <a:off x="1676160" y="403776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23"/>
          <p:cNvSpPr/>
          <p:nvPr/>
        </p:nvSpPr>
        <p:spPr>
          <a:xfrm rot="9098400">
            <a:off x="3200040" y="1828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66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3DE-216B-4F1A-90E4-292F421794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1216440" y="913320"/>
            <a:ext cx="37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ц)</a:t>
            </a: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sr-CS" sz="2000" spc="-1" strike="noStrike">
                <a:solidFill>
                  <a:srgbClr val="ffff00"/>
                </a:solidFill>
                <a:latin typeface="Tahoma"/>
              </a:rPr>
              <a:t>Опште терапијске ме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66680" y="2057400"/>
            <a:ext cx="75438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Антитетанусну заштиту треба спровести у зависности од вакциналног статуса пациј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Инфекцију ране треба лечити применом антибио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Антихистаминици делују против евентуалних нуспојава хистамина, а неутралишу хијалуронидаз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Употреба кортикостероида је дискутабил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250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Код јаких болова ординирати аналгетике (али не опијате), а код узнемирености седати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BBCD-BC63-4744-B027-C435970C50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066680" y="1143000"/>
            <a:ext cx="77724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Хемодинамску стабилност пацијента одржавати инфузионим растворима електролита и глукоз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001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д верификованог пада вредности фибриногена дати трансфузију хуманог фибриногена, а у случају тромбоцитопеније дати трансфузију тромбоци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001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У случају конвулзија и респираторне парализе применити вештачку вентилациј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001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оремећена бубрежна функција мора се третирати ограничењем уноса течности и електролита, или евентуално, хемодијализ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Aft>
                <a:spcPts val="1001"/>
              </a:spcAft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еопходан је мониторинг виталних параметара пацијената и стално регистровати вредности пулса, артеријског притиска, дисања, а путем катетеризације пратити дневну диурез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libri"/>
                <a:ea typeface="Calibri"/>
              </a:rPr>
              <a:t>Бактеријске инфекције ЦНС-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 Жељко Мијаил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Дефиниц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итис – инфламација меких мождан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Енце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литис – инфламација можданог паренх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оенц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литис – инфламација можданог паренхима и меких можданих оп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00"/>
                </a:solidFill>
                <a:latin typeface="Times New Roman"/>
              </a:rPr>
              <a:t>Postantibiotski (pseudomembranozni koliti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ajčešća 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ikacija upotrebe antibio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ogu je uzrokovati gotovo svi antibioti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oštećenje fiziološke mikroflore cr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lično deluju i neki novi antikancerogeni leko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960. god. (hloramfenikol, tetraciklin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970. god. (ampicilin, cefalosporini, klindamic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Бројни инфективни и неинфективни узрочници менингитиса (лекови и карциноматоз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кутни и хроничн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кутни  менингитис – неколико сат или д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Хронични  менингитис – најмање  4 недељ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Бактеријски менингитис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и синдром који карактерише инфламација меких можданих оп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стварање гноја у субарахноидном просто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тешка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висок ризик од појаве компликација и секве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5" descr="meninges"/>
          <p:cNvPicPr/>
          <p:nvPr/>
        </p:nvPicPr>
        <p:blipFill>
          <a:blip r:embed="rId1"/>
          <a:stretch/>
        </p:blipFill>
        <p:spPr>
          <a:xfrm>
            <a:off x="7391520" y="4038480"/>
            <a:ext cx="1752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Calibri"/>
                <a:ea typeface="Calibri"/>
              </a:rPr>
              <a:t>Фактори предиспозиције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хроничне инфекције синуса, уха, бронха, плућ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оштећења анатомског интегритета ЦНС-а, целуларне одбране и имунолошког сист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неуролошка, психичка и сензорна обољ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Calibri"/>
                <a:ea typeface="Calibri"/>
              </a:rPr>
              <a:t>Етиологија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Hemophilus influenz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Neisseria meningitid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Streptococcus pneumonia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Streptococcus grupe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Listeria monocytoge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Staphylococcus sp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Грам негативне бате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Calibri"/>
                <a:ea typeface="Calibri"/>
              </a:rPr>
              <a:t>Епидемиологија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libri"/>
                <a:ea typeface="Calibri"/>
              </a:rPr>
              <a:t>С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  <a:ea typeface="Calibri"/>
              </a:rPr>
              <a:t>порадично, ре</a:t>
            </a:r>
            <a:r>
              <a:rPr b="0" lang="sr-RS" sz="2600" spc="-1" strike="noStrike">
                <a:solidFill>
                  <a:srgbClr val="ffffff"/>
                </a:solidFill>
                <a:latin typeface="Calibri"/>
                <a:ea typeface="Calibri"/>
              </a:rPr>
              <a:t>ђе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  <a:ea typeface="Calibri"/>
              </a:rPr>
              <a:t> у епидемијама (менингококни менингитис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libri"/>
                <a:ea typeface="Calibri"/>
              </a:rPr>
              <a:t>Н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  <a:ea typeface="Calibri"/>
              </a:rPr>
              <a:t>ајшешће болест деце (70% припада деци до 5 годин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Calibri"/>
                <a:ea typeface="Calibri"/>
              </a:rPr>
              <a:t>З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  <a:ea typeface="Calibri"/>
              </a:rPr>
              <a:t>начајна повезаност између узраста и етиологиј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  <a:ea typeface="Calibri"/>
              </a:rPr>
              <a:t>Појава болести везана је за повећан број клицоноша у осетљивој средини (више од 20%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Calibri"/>
                <a:ea typeface="Calibri"/>
              </a:rPr>
              <a:t>На који начин инфективни агенс доспева до можданица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Хематогеним пут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иректним ширењем из параменингеалних фокуса (синуситис, отитис медиа, траума, директна инокулација за време неурохируршких интервенција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Директни пут ширења бактер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alibri"/>
                <a:ea typeface="Calibri"/>
              </a:rPr>
              <a:t>Дентогени апсц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itis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stoid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us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еломи лоб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Хируршке интервенције мозга и кичмене можди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Вентрикулоперитонеални ш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Лумбална пун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Фактори диспозиције/ризи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Асплен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уносупресивни лек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унодефицијенција (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IV,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алигните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лкохол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травенски нарком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Септични тромбофлеб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Calibri"/>
                <a:ea typeface="Calibri"/>
              </a:rPr>
              <a:t>Клиничка слика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Инфективни синдром - температура, малаксалост, адинамиј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еални симптоми (главобоља, повраћање, болна укоченост врата, преосетљивост на дражи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ремећај свести (сомноленција, сопор, кома, конфузно-делирантно стањ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исуство менингеалних зна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еални знаци</a:t>
            </a:r>
            <a:r>
              <a:rPr b="1" lang="sr-Latn-CS" sz="3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6" name="Picture 8" descr="Brudzinski's sign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tiolog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</a:rPr>
              <a:t>Clostridium difficile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(2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Netifusne salmone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lostridium perfrig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Disbioza ili “nepovoljan učinak antibiotika na metabolizam žučnih kiselina u crevu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еални знац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8" name="Picture 9" descr="Kernig's sign"/>
          <p:cNvPicPr/>
          <p:nvPr/>
        </p:nvPicPr>
        <p:blipFill>
          <a:blip r:embed="rId1"/>
          <a:stretch/>
        </p:blipFill>
        <p:spPr>
          <a:xfrm>
            <a:off x="685800" y="14479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е манифестације повишеног ИК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48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Едем папи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Брадикард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Хипертен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Неправилно дис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Ja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a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главобоља и повраћ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ромене у величини зе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Фокални неуролошки зна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1029" descr="papilledema"/>
          <p:cNvPicPr/>
          <p:nvPr/>
        </p:nvPicPr>
        <p:blipFill>
          <a:blip r:embed="rId1"/>
          <a:stretch/>
        </p:blipFill>
        <p:spPr>
          <a:xfrm>
            <a:off x="6324480" y="1600200"/>
            <a:ext cx="28195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мпликације Б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Оштећења кранијалних нерава (III, IV, VI, VII, VI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онвулз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Локализована запаљења можданог паренх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Оштећења централног моторног неур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ремећај циркулације ЦС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Т (хидроцефал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ардиоваскуларни поремећај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кутна респираторна инсуфициј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е манифестациј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типична клиничка слик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Старе особе, са хроничним болестима (диабетес, бубрежна инсуфицијенције и оштећење јетре), могу имати само поспаност у одсуству менингеалних симптома и знак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ацијенти са неутропенијом  имају дискретне знаке менингеалне иритациј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унодефицијентни болесници, укључујући болеснике са трансплантацијом органа или болесници са 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HIV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инфекциј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Дијагноза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линичка сл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нингеални зна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Лумбална пун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Лумбална пункциј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Замишљена линија која спаја </a:t>
            </a: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cristae iliacae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карличних кост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L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3/4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међупршљенски простор - први простор испод те лин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Положај болесника при ЛП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1" name="Picture 3" descr="AMHUYGZCA4O81RTCAD8M429CAEL1CBCCA6QQHBSCAP9NWH1CAZDK8Y4CARNGUCRCAJV0IRXCAGR8HOGCARB6U3LCA4UZGIVCAALNZKWCAHC6UTVCAXGDC03CAFKBTBVCAV838S7CAWFKXRKCAWJSDE8"/>
          <p:cNvPicPr/>
          <p:nvPr/>
        </p:nvPicPr>
        <p:blipFill>
          <a:blip r:embed="rId1"/>
          <a:stretch/>
        </p:blipFill>
        <p:spPr>
          <a:xfrm>
            <a:off x="228600" y="22860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AWGP8ZICARGUTAKCAUSH60SCAZC6C3TCADVAC0VCAU3QVPWCAERKXUSCADLHNI7CA24SF37CA83W8DCCAP0QQKJCAR1PMQICA6MFCJLCA3H4FMYCAGPG76UCAUA8HXBCA195LUMCAX8PLAKCAVPQ6X4"/>
          <p:cNvPicPr/>
          <p:nvPr/>
        </p:nvPicPr>
        <p:blipFill>
          <a:blip r:embed="rId2"/>
          <a:stretch/>
        </p:blipFill>
        <p:spPr>
          <a:xfrm>
            <a:off x="4495680" y="22860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357560" y="5073480"/>
            <a:ext cx="20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Неисправ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936040" y="499752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справ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Лумбална пункциј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76" name="Picture 4" descr="pain_lumbar_puncture"/>
          <p:cNvPicPr/>
          <p:nvPr/>
        </p:nvPicPr>
        <p:blipFill>
          <a:blip r:embed="rId1"/>
          <a:stretch/>
        </p:blipFill>
        <p:spPr>
          <a:xfrm>
            <a:off x="1905120" y="1676520"/>
            <a:ext cx="5105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stylet"/>
          <p:cNvPicPr/>
          <p:nvPr/>
        </p:nvPicPr>
        <p:blipFill>
          <a:blip r:embed="rId1"/>
          <a:stretch/>
        </p:blipFill>
        <p:spPr>
          <a:xfrm>
            <a:off x="285840" y="876240"/>
            <a:ext cx="85723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Узорковање ликвор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рувета 1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- ћелијски елементи и диференциј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рувета 2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- биохемија ликвора (протеинорахија, гликорахиј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alibri"/>
                <a:ea typeface="Calibri"/>
              </a:rPr>
              <a:t>Епрувета 3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- култура ликв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pidemiolog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l. difficil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G</a:t>
            </a:r>
            <a:r>
              <a:rPr b="0" lang="sr-Latn-C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aerobni bacil, spo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država se u bolničkoj sred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ličite površine, odeća i ruke zdravstvenog osoblja (glavna uloga u širenju zaraz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ogene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sin A→cito- i enterotoksično delo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sin B→citotoksično delov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emećaj normalne mikroflore antibiotik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ebno osetljive stare i bolesne oso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нтраиндикације за ЛП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Обструктивни –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некомуникативни хидроцефал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Тумор моз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Јако висок интракранијални притисак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едем папиле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Дијагноза БМ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ЦСТ је замућена или мут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Велики број ћелијских елемената (преко 2000 у mm3 и 90% су полиморфонуклеар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вишена п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ротеинорахија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  <a:ea typeface="Calibri"/>
              </a:rPr>
              <a:t>-обично 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већа од 2,2 g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Гликорахија снижена</a:t>
            </a:r>
            <a:r>
              <a:rPr b="0" lang="sr-RS" sz="2800" spc="-1" strike="noStrike">
                <a:solidFill>
                  <a:srgbClr val="ffffff"/>
                </a:solidFill>
                <a:latin typeface="Calibri"/>
                <a:ea typeface="Calibri"/>
              </a:rPr>
              <a:t>-некада немерљ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вишене вредности CRP, лактата, LD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ултура ликв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libri"/>
                <a:ea typeface="Calibri"/>
              </a:rPr>
              <a:t>Дијагноза на основу ликворног налаз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52280" y="1066680"/>
          <a:ext cx="8991720" cy="5430960"/>
        </p:xfrm>
        <a:graphic>
          <a:graphicData uri="http://schemas.openxmlformats.org/drawingml/2006/table">
            <a:tbl>
              <a:tblPr/>
              <a:tblGrid>
                <a:gridCol w="1981440"/>
                <a:gridCol w="2666880"/>
                <a:gridCol w="2209680"/>
                <a:gridCol w="21337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WB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лукоз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ротеин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ормал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lt;5 (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имфоцит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/3 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ерумске гликемиј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 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о 0,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4 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актеријски менингит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gt;1000 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еутрофи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ис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виш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gt;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g/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ирусни менингит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већан број лимфоцуи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ормал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ако повише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B 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енингит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већан број 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имфоцита 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0%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неутрофи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иска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овишена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(&gt;1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Терапија Б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тимикробна 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тиинфламатор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тиедематоз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Симптоматска 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Контрола виталних фун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59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употреба кортикостероида, дексаметазона  значајно смањује инфламаторни одговор (побољшава исход менингитиса и смањује неуролошке секвел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осебно код пацијената са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</a:t>
            </a:r>
            <a:r>
              <a:rPr b="0" i="1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influenzae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S. pneumoniae </a:t>
            </a:r>
            <a:r>
              <a:rPr b="0" i="1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 </a:t>
            </a: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M. tubercul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примењују се пола сата пре прве дозе антибиотика и даје се 4 дана, јер може  смањити пенетрацију антибиотика у цереброспинални теч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Терапија Б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тиинфламаторна - дексазон 0,6-0,8 mg/кg на 6h, ибупрофен, пентоксифил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Антиедематозна – манитол, фуросемид, дексаз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Симптоматска-лечење конвулзија (лоразепам или диазепам), аналгети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Контрола виталних функција (код тешких болесника са конвулзијама и претећом респираторном инсуфицијенцијо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Превенција Б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Хемопрофилакса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</a:t>
            </a:r>
            <a:r>
              <a:rPr b="0" i="1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influenzae</a:t>
            </a: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b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рифампицин (20 mg/kg 4 да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унопрофилакса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</a:t>
            </a:r>
            <a:r>
              <a:rPr b="0" i="1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influenzae</a:t>
            </a:r>
            <a:r>
              <a:rPr b="0" i="1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Хемопрофилакса менингококне боле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рифампицин 600mg на 12 h, а за децу 10 mg/кg 2 дана и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цефтриаксон 250 mg а за децу 125 mg у  једној до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Имунопрофилакса - вакцинација</a:t>
            </a:r>
            <a:r>
              <a:rPr b="0" lang="sr-Latn-CS" sz="2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libri"/>
                <a:ea typeface="Calibri"/>
              </a:rPr>
              <a:t>Последице БМ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Зам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Периодичне главобољ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Нестабилност при х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Слабљење памћ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Слабија концентр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alibri"/>
                <a:ea typeface="Calibri"/>
              </a:rPr>
              <a:t>Губитак сл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ahoma"/>
              </a:rPr>
              <a:t>Хвала на пажњ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Toksin 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nekroza enteroc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-žućkaste naslage (pseudomembra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alni deo kolona (retko distalni ileu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inička sl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vreme uzimanja antibiotika ili do 6 nedelja nakon t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šće kod dugotrajnog peroralnog da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an i kod parenteralnog davanja antibio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Lakše form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krarkotrajni proliv bez sistemskih znakova up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rednje teški i teški oblic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seudomembranozni kolitis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veliki broj stolica, sluzavokrvave, jaki bolovi u trbuhu, dehidratcija, meteorizam, povišena temperatu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že trajati nedeljama (ako se nastavi sa antibiotici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rtnost 10-20% (nelečene for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likacije: hipovolemijski šok, sepsa, perforacija creva, enterorag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U 10-20% recidivi posle 1-5 nedelja nakon le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Bolesnici sa IBD skloni infekciji sa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</a:rPr>
              <a:t>Cl.diffic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сич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гакол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лминант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с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оз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албумин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difficil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ин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B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difficil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ог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оскопск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гелоз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емиј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50:56Z</dcterms:created>
  <dc:creator>Canovic</dc:creator>
  <dc:description/>
  <dc:language>en-US</dc:language>
  <cp:lastModifiedBy>Iva</cp:lastModifiedBy>
  <dcterms:modified xsi:type="dcterms:W3CDTF">2020-10-01T10:09:35Z</dcterms:modified>
  <cp:revision>115</cp:revision>
  <dc:subject/>
  <dc:title>Slide 1</dc:title>
</cp:coreProperties>
</file>